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7.png" ContentType="image/png"/>
  <Override PartName="/ppt/media/image6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3F2-39BC-4008-9EF2-94B7E74D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72C-2B42-4D99-91A7-37DA5CC0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C5C-39C2-40EA-8651-CF6E0E9A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A6C-75CF-48DF-81FF-72800157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C671-8A19-43D2-B45D-9336AF82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2D9F-27A9-4DFE-B1CD-973849DD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4024-EC55-4C7A-8B69-23F7A174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53D1-930F-412F-8729-7FDE6A23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02E9-0ADB-4DE7-B6CF-7CF37509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D2EA-2CEA-4A50-83C9-ADDE24A3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357D-A2D3-4D6F-8B03-8119B72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136-FA72-4B18-9446-88324D28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9EEB-A391-4E4C-9D94-EC501D5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70CD-37FD-4E1C-8C37-2202784B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12F6-31E8-4539-B02B-5E63E4ED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DA7D-E597-4E6C-B4BE-C085A952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9D4E-9964-400B-8A83-F8598A9C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44B2-CAAA-4DD0-8241-7D96476D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8917-7BB7-4F3A-B8F7-32F8CE4B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B3A1-67D2-4B6C-B5DF-25481731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4229-538B-456B-B82E-0881D5A7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3695-9772-45B9-8A04-FAACA965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A8C-FA8F-4B09-9DD1-9641AFAF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0F2B2-B9B8-4A09-A294-FFC55F3D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91DA-40E7-4320-8992-D13A69B4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FFBE-2F8A-4CC4-92D1-56A5001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DF33-B335-4A6B-AF05-82C7BBA1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7CBA-36A3-4284-AAA7-371B2319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2EDD-B669-4AD3-BE4C-0225F193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4387F-D603-4761-9E50-56D887C8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1197-E80E-4077-BE73-79266DBE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A17F0-6C5F-48BE-98C7-FF1D3CBF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C1A52-54B4-4EFD-B5E7-BAA6B913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149-0A62-44F8-A634-21D0F5E2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E2E71-72DB-4BC9-A28A-E79C6574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B01F3-0856-4A5E-B2A4-2D7DE097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8CE53-6BE3-40D6-8020-46DCB5A6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56D67-0BD4-49E1-AEE9-C62A511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1EFA-34CC-4993-9490-2D80C2C8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6560-421B-4BCB-9509-CD568393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1D6C8-3DBF-4638-9D50-AF575C78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B864-029A-4A57-B8B5-8C782EDF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2C141-313A-41EF-BA80-EB5220F9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9F620-1E2A-42A0-9FF7-B2F594EF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48D-4462-4624-B2BC-2CDDBA0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38F40-356F-4CEF-A399-28DCF918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0BAF4-E2AC-40FD-8ADA-81C07816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83DAD-D470-4586-B195-EF15444C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D21AE-563D-49A3-AA70-BC4C6F99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DDB5-9B70-4AC6-82B0-36C34BA3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0945D-346C-4671-843E-AB0DE44D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8ACB3-29CD-4242-A8E5-DEE59F66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5D0A-04E5-4B2C-8A19-C38CB2C8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E41BF-AF1F-4176-85E7-8A14DD82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A194-C81F-416B-92A7-BEAC215D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BE9-D5B3-438F-852E-E849227B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1C765-A34F-4E5A-BD69-FD793B98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CEE8-2B58-4C83-BDDF-68E5CC27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0A68-2813-4877-93CE-17700B4C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91B58-57EB-4486-874A-32FF8CB6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43022-C62E-40F1-B9F6-B736911C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D78B9-0856-4306-9DA1-8902BA89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334C9-0768-459C-BC40-DE7442B0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5F1F9-6DF8-449A-BC0C-64ECAB0C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BFD69-3C96-47C3-B425-E3CB7B2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7B63A-2CB3-4AC6-9FEF-A9C7C48F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CED-94B9-46FD-AC63-9547294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42C59-A2E5-4AFC-B178-D81657BF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6455F-71C6-4B43-BB0B-BBDF22F3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A8650-3051-41DE-AB84-3285294E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17AAB-579D-4B5E-8829-B3008D7C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BB117-4C5F-4121-9670-9583DE19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D544C-43BB-4CC3-B9BF-5D090742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F105D-4786-43F8-9A82-09DFFDC7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09C87-5DB2-4DDB-9C4F-1B2602B6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7603E-7F82-4C96-9BA9-C39E4EA2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24DD2-E47E-46FA-9757-84499793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4B1-74FD-46F2-94FD-47FE350F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522ED-4613-41A6-90BC-6C23DB07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1EFEE-CBA9-41D6-811A-AC7B90D7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F2C73-7543-42B4-9894-A7071286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6379F-2404-4D68-9C6B-210709926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798E0-F01E-45B5-B747-6BFF9142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B4893-CB31-4BCD-B39B-9DA649D7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6C9C4-03E6-447A-B4CA-ED974A68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84B31-A813-4796-BC1E-03DF1377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7FE3C-8C4F-4DF4-A487-10D1914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B7474-68E0-41B6-9934-34E45539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517-D0A5-4242-8A18-CCE148D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558E0-8555-45C0-B33C-831DBFF8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3AE9E-6EAD-432E-88FC-3C4E6AAE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4133B-5CE6-4938-A2CB-DA664934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7227F-C719-41C8-97AD-14F453A1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2055D-5B8E-4D92-B069-EA71D327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D758A-2497-4245-B935-A2525833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B7DE2-A558-4D7F-8A7A-1C867E34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A32A-1EA1-49C5-8BAF-99AA459B10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5016-6F7F-4CBB-8BA7-DCF4082E2EED}" type="slidenum">
              <a:rPr b="0" lang="es-E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DDCA-BD14-488D-BB2B-76DEE068CAC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5DA3-26AD-41C5-89CB-2E375044077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9552-2207-4DD0-839F-1796F00870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A3E0-D4D6-46A6-A16F-C72954F13D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0b00"/>
            </a:gs>
            <a:gs pos="100000">
              <a:srgbClr val="99605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0F16-CBEC-4FCD-B62C-7F49089C7F48}" type="slidenum">
              <a:rPr b="0" lang="es-E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9B72-956A-47A2-AE8F-5DD0D36142DA}" type="slidenum">
              <a:rPr b="0" lang="es-E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822240" y="1189080"/>
            <a:ext cx="830268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1 Título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35355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 Título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916360" y="2060640"/>
            <a:ext cx="3084480" cy="4118040"/>
          </a:xfrm>
          <a:prstGeom prst="rect">
            <a:avLst/>
          </a:prstGeom>
          <a:ln w="0">
            <a:noFill/>
          </a:ln>
        </p:spPr>
      </p:pic>
      <p:sp>
        <p:nvSpPr>
          <p:cNvPr id="380" name="4 Flecha izquierda"/>
          <p:cNvSpPr/>
          <p:nvPr/>
        </p:nvSpPr>
        <p:spPr>
          <a:xfrm>
            <a:off x="5219640" y="4508640"/>
            <a:ext cx="1944720" cy="936360"/>
          </a:xfrm>
          <a:prstGeom prst="leftArrow">
            <a:avLst>
              <a:gd name="adj1" fmla="val 50000"/>
              <a:gd name="adj2" fmla="val 4999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805800" cy="5776920"/>
          </a:xfrm>
          <a:prstGeom prst="rect">
            <a:avLst/>
          </a:prstGeom>
          <a:ln w="0">
            <a:noFill/>
          </a:ln>
        </p:spPr>
      </p:pic>
      <p:sp>
        <p:nvSpPr>
          <p:cNvPr id="347" name="4 CuadroTexto"/>
          <p:cNvSpPr/>
          <p:nvPr/>
        </p:nvSpPr>
        <p:spPr>
          <a:xfrm>
            <a:off x="2411280" y="321300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5 CuadroTexto"/>
          <p:cNvSpPr/>
          <p:nvPr/>
        </p:nvSpPr>
        <p:spPr>
          <a:xfrm>
            <a:off x="5940360" y="234936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6 CuadroTexto"/>
          <p:cNvSpPr/>
          <p:nvPr/>
        </p:nvSpPr>
        <p:spPr>
          <a:xfrm>
            <a:off x="3564000" y="501336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7 CuadroTexto"/>
          <p:cNvSpPr/>
          <p:nvPr/>
        </p:nvSpPr>
        <p:spPr>
          <a:xfrm>
            <a:off x="4427640" y="177336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8 CuadroTexto"/>
          <p:cNvSpPr/>
          <p:nvPr/>
        </p:nvSpPr>
        <p:spPr>
          <a:xfrm>
            <a:off x="1476360" y="270828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9 CuadroTexto"/>
          <p:cNvSpPr/>
          <p:nvPr/>
        </p:nvSpPr>
        <p:spPr>
          <a:xfrm>
            <a:off x="2627280" y="213372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10 CuadroTexto"/>
          <p:cNvSpPr/>
          <p:nvPr/>
        </p:nvSpPr>
        <p:spPr>
          <a:xfrm>
            <a:off x="7164360" y="414972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11 CuadroTexto"/>
          <p:cNvSpPr/>
          <p:nvPr/>
        </p:nvSpPr>
        <p:spPr>
          <a:xfrm>
            <a:off x="4356000" y="3357720"/>
            <a:ext cx="4320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12 CuadroTexto"/>
          <p:cNvSpPr/>
          <p:nvPr/>
        </p:nvSpPr>
        <p:spPr>
          <a:xfrm>
            <a:off x="3276720" y="141300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4" descr="http://www.funjdiaz.net/instrumentos/img/0846.jpg"/>
          <p:cNvPicPr/>
          <p:nvPr/>
        </p:nvPicPr>
        <p:blipFill>
          <a:blip r:embed="rId2"/>
          <a:stretch/>
        </p:blipFill>
        <p:spPr>
          <a:xfrm>
            <a:off x="6156360" y="549360"/>
            <a:ext cx="1965240" cy="1358640"/>
          </a:xfrm>
          <a:prstGeom prst="rect">
            <a:avLst/>
          </a:prstGeom>
          <a:ln w="0">
            <a:noFill/>
          </a:ln>
        </p:spPr>
      </p:pic>
      <p:sp>
        <p:nvSpPr>
          <p:cNvPr id="357" name="14 CuadroTexto"/>
          <p:cNvSpPr/>
          <p:nvPr/>
        </p:nvSpPr>
        <p:spPr>
          <a:xfrm>
            <a:off x="6516720" y="549360"/>
            <a:ext cx="431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3"/>
          <a:stretch/>
        </p:blipFill>
        <p:spPr>
          <a:xfrm>
            <a:off x="270000" y="4941720"/>
            <a:ext cx="1493640" cy="1351080"/>
          </a:xfrm>
          <a:prstGeom prst="rect">
            <a:avLst/>
          </a:prstGeom>
          <a:ln w="0">
            <a:noFill/>
          </a:ln>
        </p:spPr>
      </p:pic>
      <p:sp>
        <p:nvSpPr>
          <p:cNvPr id="359" name="16 CuadroTexto"/>
          <p:cNvSpPr/>
          <p:nvPr/>
        </p:nvSpPr>
        <p:spPr>
          <a:xfrm>
            <a:off x="1116000" y="5445000"/>
            <a:ext cx="6476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entury Gothic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1 Título" descr=""/>
          <p:cNvPicPr/>
          <p:nvPr/>
        </p:nvPicPr>
        <p:blipFill>
          <a:blip r:embed="rId1"/>
          <a:stretch/>
        </p:blipFill>
        <p:spPr>
          <a:xfrm>
            <a:off x="450720" y="73080"/>
            <a:ext cx="8242560" cy="32925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62182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1 Título" descr=""/>
          <p:cNvPicPr/>
          <p:nvPr/>
        </p:nvPicPr>
        <p:blipFill>
          <a:blip r:embed="rId1"/>
          <a:stretch/>
        </p:blipFill>
        <p:spPr>
          <a:xfrm>
            <a:off x="450720" y="-244440"/>
            <a:ext cx="8242560" cy="22255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4321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1 Título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369280" cy="1577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64785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1 Título" descr=""/>
          <p:cNvPicPr/>
          <p:nvPr/>
        </p:nvPicPr>
        <p:blipFill>
          <a:blip r:embed="rId1"/>
          <a:stretch/>
        </p:blipFill>
        <p:spPr>
          <a:xfrm>
            <a:off x="450720" y="-189000"/>
            <a:ext cx="8242560" cy="1859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3"/>
          <a:stretch/>
        </p:blipFill>
        <p:spPr>
          <a:xfrm>
            <a:off x="1692360" y="1557360"/>
            <a:ext cx="611820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1 Título" descr=""/>
          <p:cNvPicPr/>
          <p:nvPr/>
        </p:nvPicPr>
        <p:blipFill>
          <a:blip r:embed="rId1"/>
          <a:stretch/>
        </p:blipFill>
        <p:spPr>
          <a:xfrm>
            <a:off x="450720" y="-212760"/>
            <a:ext cx="8242560" cy="1882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2"/>
          <a:stretch/>
        </p:blipFill>
        <p:spPr>
          <a:xfrm>
            <a:off x="2556000" y="1628640"/>
            <a:ext cx="3938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1 Título" descr=""/>
          <p:cNvPicPr/>
          <p:nvPr/>
        </p:nvPicPr>
        <p:blipFill>
          <a:blip r:embed="rId1"/>
          <a:stretch/>
        </p:blipFill>
        <p:spPr>
          <a:xfrm>
            <a:off x="-6480" y="182520"/>
            <a:ext cx="8364600" cy="1481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2195640" y="1916280"/>
            <a:ext cx="5118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450720" y="165240"/>
            <a:ext cx="8242560" cy="15048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2627280" y="2205000"/>
            <a:ext cx="35416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10-31T22:02:12Z</dcterms:modified>
  <cp:revision>12</cp:revision>
  <dc:subject/>
  <dc:title>LES PARTIES D’UN TOMBOUR D’HELLÍN</dc:title>
</cp:coreProperties>
</file>